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60123-E8C9-49A8-A13F-B5FA02BD2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86DFC-AFF3-4E66-9329-0383D06BC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A3C61-9083-4AE0-8E47-26C8EE36E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A9D01-2E61-4710-862E-3E6424183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47136-763D-41AB-870F-AC27077BA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8A122-0845-4B26-A3E6-E688CFBE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1C614-8957-4576-98FA-9005AF048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5CA4E-4F23-40A8-B26A-A07278EE1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532E2-83DC-418B-A4ED-A5643AC21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E7E9F-C1E3-40A3-87FE-5D6137FD0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07F8A-F159-4221-BE51-28D4182F2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A428-F2CB-4A84-A45E-AEEC176D8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EE8F-E6AC-45AA-BFDB-086DC30D3A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 Evacuees</a:t>
            </a:r>
            <a:endParaRPr b="0" lang="en-US" sz="4400" spc="-1" strike="noStrike">
              <a:solidFill>
                <a:srgbClr val="000000"/>
              </a:solidFill>
              <a:latin typeface="Arial"/>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y from the National Oceanic and Atmospheric Administration reports that ‘climate change that takes place due to increase in carbon dioxide concentrations is largely irreversible for 1,000 years after emissions stop’. It could lock in a sea level rise that could ultimately become submerg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8:31:23Z</dcterms:created>
  <dc:creator>PA Department of Education</dc:creator>
  <dc:description/>
  <dc:language>en-US</dc:language>
  <cp:lastModifiedBy>PA Department of Education</cp:lastModifiedBy>
  <dcterms:modified xsi:type="dcterms:W3CDTF">2009-05-26T18:42:49Z</dcterms:modified>
  <cp:revision>2</cp:revision>
  <dc:subject/>
  <dc:title>Climate Change Evacuees</dc:title>
</cp:coreProperties>
</file>